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3B49-0D86-4A35-B4FC-013D1335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504-A7E3-45C6-B40E-E0DF0018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117-4496-49DE-B5EE-F2AE0179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BF0-A186-4F3A-BCB1-C7C7E25E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E18B-945B-4A5A-AF97-DFF4A54A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D3BC-AEC3-434B-AD44-3EA8245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FE1B-35E2-4CA5-9918-209AD7D8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9120-EADA-4127-B014-1107F302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C732-9E7C-481F-A7B2-25AF8860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4EEF-EB8C-4689-A696-7FC2726F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C7E0-10CD-4DC8-AE5A-2702A35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AC5-15D8-47E4-B1DA-4580E433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099E-6308-4D3D-9CD1-B1C4AE2E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9F5B-661F-47D9-8CF3-2D07F42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4C19-DEFD-4455-A130-4EFD3048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6553-F544-4782-BA80-8A7757A2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27D6-3326-444C-8CE2-67BF3A59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128-C983-4F3D-A691-0F3D19EA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FC6-8240-4EED-98AF-DBBB347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138-9CE8-44E7-82A9-17A2779F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F38-86B6-4B41-B4B6-778149C8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960-B835-49C9-80EE-7AEF0C2C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259-CE97-4422-B921-B3C1B356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3CB-5834-44A6-B2CE-0AB5065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DC7B-4765-469B-B7D2-B3D7D5445B7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2D0F-2618-4915-B5CA-D17F5087447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622440"/>
            <a:ext cx="8431200" cy="3035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imberly Hinton, LMSW, ACS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Guidance Cen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ildren’s Home-Based Services Supervis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written incorrectly, objectives are often written as interven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oals and objectives are written in clinical language where clients can not understa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 careful when using percentages.  How does the reader and client know what 75% looks like as it relates to behaviors being display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244440" y="103320"/>
            <a:ext cx="8899560" cy="171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ropriate Goal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wants improved communication with his/her parent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wants to resolve issues surrounding emotion and physical abus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wants to increase his/her ability to manage mood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wants to live a healthy lifestyle so that she can feel better about hersel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amily will utilize support and resources from wrap facilitator to achieve  stabilit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442360" cy="171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ropriate Objective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wants to identify 3 ways his moods affect his/her daily functioning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wants to learn about triggers and identify 3 triggers that are specific to their traum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will report no substance use for 90 day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wants to engage in productive and/or leisure activities outside the home at least twice a wee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ent is willing demonstrate 3 strategies for reducing symptoms of depress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ntervention is a clinical strategy or type of action that will be employed within a service type (modality) and is expected to help achieve an objectiv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The actions are to help the client complete the objectiv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Very specific to the treatment modality and tools to be used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goals and objectives are written correctly it helps guide the clinician on how to document the progress and barriers based on the measurable objectiv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ess notes are utilized to document the therapist and clients weekly work on the goals and objectives of the treatment pla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ocuments satisfaction with service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ocuments success within the course of treatmen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ives the clients the opportunity to state how they feel about treatmen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dolescent Psychotherapy Treatment Planner,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Edi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hild Psychotherapy Treatment Planner,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Edi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ference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ngsma, A. (2006). The Adolescent Psychotherapy Treatment Planner,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 Antiqu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edi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TM Services (2011). How to Audit a File and Improve the Quality of the Content in Your Document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khinton\AppData\Local\Microsoft\Windows\Temporary Internet Files\Content.IE5\R9RM5L5F\MC900441902[1].wmf"/>
          <p:cNvPicPr/>
          <p:nvPr/>
        </p:nvPicPr>
        <p:blipFill>
          <a:blip r:embed="rId2"/>
          <a:stretch/>
        </p:blipFill>
        <p:spPr>
          <a:xfrm>
            <a:off x="3811680" y="1341360"/>
            <a:ext cx="28940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arn how to create goals that are specific and related to the problem statem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arn how to create objectives that are observable and measura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arn how goals and objectives are rela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on mistakes made when creating goals and objec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appropriate goals and objec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96200" cy="126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s the family and the therapist have a unified plan as to how they are going to proceed in treatm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ives the child and family a voice to state what they feel is important to work on at this stage in their treatment. (Person-Center Planning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ould be a working active document, not just a piece of paper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oal is a general statement of outcome related to an identified need in the clinical assessment.  It is: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Global and broad in definitio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resolution of the problem behavior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trength bas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Should relate to the problem state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ould be realistic and related to the problem are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do we (clinician and client) want the outcome of our work together to be, as we address this identified need?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hould only be one sentence lo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havioral health goals are designed to help eliminate barriers to life go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bjectives are observable, measurable, changes in the client’s behavior, functioning and/or symptoms, support level, etc. that relate to achievement of the goal, and are expected to result from planned interventions.  It i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 step towards attaining the goal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easurable!!!!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bservable!!!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bjectives should be realistic and viewed within a timefra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bjectives can be accomplished faster than go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in the treatment process if the therapist and the client are still working on the same objective, therapist may need to review and change interventions that correlate with that objectiv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ving baseline information makes the objectives to be more realistic and accomplishabl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oals and objectives are to wordy whereby only the therapist understands i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oals are too specific and turn into objec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tending appointments i.e individual therapy or psychiatric appointments are not objectiv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liance with medication is not an objective unless it is clearly documented that client has a problem with medication compliance which is related to the goal and problem statem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7:37:03Z</dcterms:created>
  <dc:creator>Kimberly Hinton</dc:creator>
  <dc:description/>
  <dc:language>en-US</dc:language>
  <cp:lastModifiedBy>Felicia Hartman</cp:lastModifiedBy>
  <cp:lastPrinted>2012-07-16T15:05:20Z</cp:lastPrinted>
  <dcterms:modified xsi:type="dcterms:W3CDTF">2015-03-09T12:33:20Z</dcterms:modified>
  <cp:revision>24</cp:revision>
  <dc:subject/>
  <dc:title>PowerPoint Presentation</dc:title>
</cp:coreProperties>
</file>