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DCA-4ECB-41F5-BA35-26103903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89C-4144-402C-9D68-1B5CAA1F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0DD-6849-4D6E-B4A0-D6B2BCF6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B41-4BBA-40E1-B1EB-4353597A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2AF-EA87-4022-BD01-44FD67E3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F50-E8A0-447F-A941-7B6633E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82F-BFE8-4AF2-BFE8-C30FE2E3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D38-3470-4445-A0BF-44120140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6E5-6203-47F8-81D8-B294FD7C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D65-9100-4C85-BA3F-A44879CD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981-D808-4884-A144-D08167F7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08A-4E49-4764-AE2D-791796E8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C53DD-4891-4D2D-84FD-54FC4A9BB1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F87E9-9D8C-499B-98DC-371C9F556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92120"/>
            <a:ext cx="815652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Serv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Competencies Training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Super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troit Way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ental Health Auth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pervisory Relation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vi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ways to think about responses to famil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how to formulate informed questions that might lead to greater understanding instead of quick problem res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s practitioner a chance to reflect, refuel, or to consider what to do n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more than a simple recitation of activities, events and challen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upervisor Facilitates and Guides Discussion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the history of the child and fam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influences of the past on current situ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the practitioner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 needs and own experi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lp the clinician build communication between her and the fam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 the perspectives of the fam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nk about intervention strateg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ld intense feeling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sential Qualities of a Supervis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of self in supervi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wareness of her effect on the practitio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ognition of the practitioner</a:t>
            </a:r>
            <a:r>
              <a:rPr b="0" lang="ja-JP" sz="3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 perception of power, control and autho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rol impulses to ju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ok for themes, repetitious dilemmas, gaps in knowledge and difficulty mana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l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sential Qualities of a Supervis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 missing pieces of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quire without interrogation – asking questions in a way that allows the practitioner the opportunity to explore her own reaction to a parent, situation or event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s a sense of the case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ints of Confusion in the Practice of Supervis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 and auth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hosts of superviso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usion about the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apeutic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ture of reflection in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in mind that as you work together you are supporting the practitione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developing ability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9980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e the client, aware of strengths and ris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e the parents and their ability to care for the chi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nder what it might be like for the client to experience a particular interaction or ev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thoughts and emotional responses to a particular child, parent, interaction, event, assessment, intervention, etc. and share them with you but not so as to interru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work with the fami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 emotionally attentive and responsive, but at the same time, thoughtful, reasonable; e.g. balance emotion with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 observant and curious, suspending jud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4360" y="-360"/>
            <a:ext cx="8099280" cy="35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t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going well, supervision is a holding environment, a place to feel secure enough to expose insecurities, mistakes, questions and differences.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. Shamoon Shanock (199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4960" y="3714840"/>
            <a:ext cx="82123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continue the arduous task of holding and sustaining others, the practitioner must be held and sustained too.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 Weatherston (199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Social Work Super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ental health practice is a distinct area of practice conducted by an experienced and skilled practitioner in order to assist staff and new professionals in developing the knowledge and skills to practice effective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pervisor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role as the guarantor or public protection against sub-standard practice and undesirable outcomes and is recognized in our state licensing la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havioral Health Care Wor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31732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all stages of their career, good supervision prevents burnout, improves the quality of clinical care and reduces li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hree types of supervision: clinical, administrative and suppor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 of Clinical Super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fessional process of support and learning which enables the practitioner to develop knowledge and compe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the practitioner to assume responsibility for their own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enhance consumer protection and the safety of care in complex clinical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istrative Super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– to ensure that work is preformed regarding paperwork compliance, billing and administrative procedures for chang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supervision is crucial to agency functio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ortive Super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ive  - is not usually separate from clinical or administrative but has the function of increasing job performance and decreasing burn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provided whenever the practitioner needs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vi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atter which model you employ, the feature that must exist is the creation of a safe environment in which a supervisee can discuss their thoughts and feel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within a trusting supervisory relationship that a practitioner grasps what is fundamental about working with children and families AND the power and centrality of relationsh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crucial to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sential Components of Supervision and Reflective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time frames: are clear, established, respected and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ion: mutual respect, where there is the expectation  that you will work together, discuss successes and failures, listen, ask questions, and set goal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lection: to have a time and place to think deeply about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work, one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: Shahoom-Shanok, Gilkerson, Eggb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Fenichel (199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gether Practitioner and Supervi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 – what is going on in the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– to allow a view of the story from a fresh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lect – is the practitioner beginning to think and feel differently about some aspect of their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 – applying insights gained for analysis, discussion, and refl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8:35:13Z</dcterms:created>
  <dc:creator>Carol Oleksiak</dc:creator>
  <dc:description/>
  <dc:language>en-US</dc:language>
  <cp:lastModifiedBy>Felicia Hartman</cp:lastModifiedBy>
  <dcterms:modified xsi:type="dcterms:W3CDTF">2015-03-09T12:29:45Z</dcterms:modified>
  <cp:revision>17</cp:revision>
  <dc:subject/>
  <dc:title>Children’s Services  Core Competencies Training Clinical Supervision</dc:title>
</cp:coreProperties>
</file>